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93BB-8C9E-4AAD-858A-36FA4811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127D-5E47-4975-999F-2036279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052A-B824-4288-B44E-98391307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237A-F650-443C-B474-34EF5834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5F0B-F152-4B7A-814B-FB30289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1F35-E4C1-4728-91F0-67EA77F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469D-873E-4770-B66E-63B1EC1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28AD-40E4-4686-A13D-E0464290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8F81-DE2E-4357-B520-00E6D56C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2C40-7A28-4E6D-8FB0-652090B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8E7B-48F0-4A26-8476-0E95834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CCD6-4CAC-475D-A6A9-FF992E5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A10-BEF7-4C23-9784-254D7600BEE9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f497d"/>
                </a:solidFill>
                <a:latin typeface="Footlight MT Light"/>
              </a:rPr>
              <a:t>Comune</a:t>
            </a:r>
            <a:r>
              <a:rPr b="1" lang="it-IT" sz="4200" spc="-1" strike="noStrike">
                <a:solidFill>
                  <a:srgbClr val="1f497d"/>
                </a:solidFill>
                <a:latin typeface="Footlight MT Light"/>
              </a:rPr>
              <a:t> </a:t>
            </a:r>
            <a:r>
              <a:rPr b="0" lang="it-IT" sz="4200" spc="-1" strike="noStrike">
                <a:solidFill>
                  <a:srgbClr val="1f497d"/>
                </a:solidFill>
                <a:latin typeface="Footlight MT Light"/>
              </a:rPr>
              <a:t>di Rieti</a:t>
            </a:r>
            <a:br>
              <a:rPr sz="4200"/>
            </a:br>
            <a:r>
              <a:rPr b="0" lang="it-IT" sz="4200" spc="-1" strike="noStrike">
                <a:solidFill>
                  <a:srgbClr val="1f497d"/>
                </a:solidFill>
                <a:latin typeface="Footlight MT Light"/>
              </a:rPr>
              <a:t>Politiche Sociali, Solidarietà, Integrazione</a:t>
            </a:r>
            <a:br>
              <a:rPr sz="4200"/>
            </a:br>
            <a:endParaRPr b="0" lang="en-US" sz="4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Footlight MT Light"/>
              </a:rPr>
              <a:t>(dott.sa Stefania Marianton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1f497d"/>
                </a:solidFill>
                <a:latin typeface="Cambria"/>
              </a:rPr>
              <a:t>Emergenza casa: contesto locale</a:t>
            </a:r>
            <a:endParaRPr b="0" lang="en-US" sz="4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nno 201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 n° 61 nuclei familiari per i quali l’Amministrazione Comunale ha erogato un contributo economico finalizzato al reperimento di un nuovo alloggio per i nuclei sottoposti a procedura di sfratto esecutivo per morosità  e/o per sanare morosità pregres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 n° 10 nuclei familiari, la maggior parte con figli minori  a carico e privi di rete familiare, sottoposti a provvedimento di sfratto esecutivo e che hanno dovuto lasciare l’alloggio, ospitati presso Strutture socio-assistenziali o alberghiere, o in appartamenti presi in locazione dall’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2014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n° 32 nuclei familiari per i quali l’Amministrazione Comunale ha erogato un contributo economico finalizzato al reperimento di un nuovo alloggio per i nuclei sottoposti a procedura di sfratto esecutivo per morosità  e/o per sanare morosità pregress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n° 12 nuclei familiari, la maggior parte con figli minori  a carico e privi di rete familiare, sottoposti a provvedimento di sfratto esecutivo e che hanno dovuto lasciare l’alloggio, ospitati presso Strutture socio-assistenziali o alberghiere, o in appartamenti presi in locazione dall’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2015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n° 21 nuclei familiari per i quali l’Amministrazione Comunale ha erogato un contributo economico finalizzato al reperimento di un nuovo alloggio per i nuclei sottoposti a procedura di sfratto esecutivo per morosità  e/o per sanare morosità pregress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n° 8  nuclei familiari, la maggior parte con figli minori  a carico e privi di rete familiare, sottoposti a provvedimento di sfratto esecutivo e che hanno dovuto lasciare l’alloggio, ospitati presso Strutture socio-assistenziali o alberghiere, o in appartamenti presi in locazione dall’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mbria"/>
              </a:rPr>
              <a:t>BANDO DISTRETTUALE PER IL CANONE DI LOCAZIONE DISTRETTUALE- FONDI  REGIONALI</a:t>
            </a:r>
            <a:endParaRPr b="0" lang="en-US" sz="20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 domande pervenute sono  222, di cui  159  relative ai residenti nel  Comune  di Rieti e 63  per i residenti nei  24 Comuni afferenti al Distretto RI 1 (Cantalice n. 5- Contigliano n.10- Morro Reatino n.2- Rivodutri n.5- Greccio n.6- Cittaducale n. 15- Labro n. 2- Belmonte in Sabina n. 4- Ascrea n.1- Colli sul Velino n.1- Longone Sabino n. 1- Monte S. Giovanni n. 5- Roccasinibalda n. 6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ono state ritenute ammissibili ad una prima valutazione n° 144 domande, per  n° 45 è stata richiesta un supplemento di indagine e n° 33  risultano non ammissibi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una valutazione sociale emerge che i nuclei familiari che hanno presentato istanza sono per lo più nuclei monoreddito con figli minori, che hanno serie difficoltà a pagare un canone di locazione mensile, per alcuni di loro ci sono intimazioni di sfratto da parte dei proprietari di 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mbria"/>
              </a:rPr>
              <a:t>UFFICIO POLITICHE ABITATIVE DEL COMUNE DI RIETI:</a:t>
            </a:r>
            <a:br>
              <a:rPr sz="2000"/>
            </a:br>
            <a:r>
              <a:rPr b="1" lang="it-IT" sz="2000" spc="-1" strike="noStrike">
                <a:solidFill>
                  <a:srgbClr val="1f497d"/>
                </a:solidFill>
                <a:latin typeface="Cambria"/>
              </a:rPr>
              <a:t>ASSEGNAZIONE ALLOGGI ERP - GRADUATORIA ORDINARIA E DI RISERVA</a:t>
            </a:r>
            <a:endParaRPr b="0" lang="en-US" sz="20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ANNO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ssegnazione 20 alloggi ER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15 alloggi assegnati con la graduatoria ordinaria pubblicata il 15.06.2012 ( i 15 alloggi vengono assegnati tra la fine del 2013 e i primi mesi del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 5 alloggi assegnati con la graduatoria di riserva come previsto dall’art.13 del Regolamento  Regionale n° 2/2000 attuativo della Legge Regionale 12/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a graduatoria di riserva è stata effettuata secondo qua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revisto dalla Delibera di Giunta Comunale n°32 del 31/01/201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a riserva era destinata ai nuclei familiari segnalati dai Serviz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ociali e destinatari di un provvedimento di rilascio forzos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ell’alloggio alla data del 27/01/201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NNO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ssegnazione 12 alloggi ER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- 9 alloggi assegnati con la graduatoria ordinaria pubblicata il 15.06.2012 ( i 9 alloggi vengono assegnati tra la fine del 2014 e i primi mesi del 20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- 3 alloggi assegnati con la graduatoria di riserva come previsto dall’art.13 del Regolament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egionale n° 2/2000 attuativo della Legge Regionale 12/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graduatoria di riserva è stata effettuata secondo quanto previsto dalla Delibera di Giu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ale n° 10 del 27/01/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riserva era destinata ai nuclei familiari segnalati dai Servizi Sociali e destinatari di un provvedimento di rilascio forzoso dell’alloggio alla data del  27/01/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27/11/2014 viene emesso il  nuovo bando pubblico per l’assegnazione  ordinaria degli alloggi ERP  con termine di scadenza 31/12/2014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omande presentate 10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ANNO 2015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ssegnazione 47  alloggi ERP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 36 alloggi assegnati con la graduatoria ordinaria pubblicata il 22/06/2015 secondo quanto previsto dal bando pubblicato il 27/11/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- 11 alloggi assegnati con la graduatoria di riserva come previsto dall’art.13 del Regolamento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gionale n° 2/2000 attuativo della Legge Regionale 12/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a graduatoria di riserva è stata effettuata secondo quanto previsto dalla Delibera di Giunta Comunale n° 11 del 29/01/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La riserva era destinata ai nuclei familiari  segnalati dai Servizi Sociali e destinatari di un provvedimento di rilascio forzoso dell’alloggio alla data del 29/01/201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ra gli 11 nuclei familiari assegnatari di alloggi ERP con la graduatoria di riserva 4 nuclei erano ricoverati con retta a carico dell’ Amministrazione Comunale in strutture socio-assistenziale e/o in strutture alberghie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l 18/12/2015 è stata pubblicata la  nuova graduatoria ordinaria per l’assegnazione degli alloggi ERP (pervenute n° 110 domand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ino al 31/12/2015 possono essere ripresentate le domande per accedere alla nuova graduatoria per l’assegnazione ordinaria degli alloggi ERP che sarà pubblicata entro il mese di maggio 201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14:14Z</dcterms:created>
  <dc:creator>Vasco Maria Cleri</dc:creator>
  <dc:description/>
  <dc:language>en-US</dc:language>
  <cp:lastModifiedBy>Stefania Mariantoni</cp:lastModifiedBy>
  <dcterms:modified xsi:type="dcterms:W3CDTF">2015-12-29T21:17:40Z</dcterms:modified>
  <cp:revision>41</cp:revision>
  <dc:subject/>
  <dc:title>Comune di Rieti</dc:title>
</cp:coreProperties>
</file>