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C237-D54B-4905-8346-107869A0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31C1-A3F5-4756-8E3C-8B93748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7BC4-6C38-49F4-8C31-6438A234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1709-6B73-4D79-B95C-F23AE9E2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F7E2-0861-4132-A0C3-3D821F8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23E6-C842-4054-9951-C6AE93F1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C882-6A89-492D-BA4F-E2D410D6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F402-BBAA-4127-A466-CB0FC2C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9733-8972-41D0-A707-BF00625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252A-30EA-4594-B517-41726E1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3925-0D7C-4632-87B0-F55D239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719D-B017-4B2A-A69A-7271774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279-4A20-4E7C-93D7-5C6B3232DA8A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otocollo@pec.comune.rieti.i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Comune</a:t>
            </a:r>
            <a:r>
              <a:rPr b="1" lang="it-IT" sz="4200" spc="-1" strike="noStrike">
                <a:solidFill>
                  <a:srgbClr val="1f497d"/>
                </a:solidFill>
                <a:latin typeface="Cambria"/>
              </a:rPr>
              <a:t> </a:t>
            </a: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di Rieti</a:t>
            </a:r>
            <a:br>
              <a:rPr sz="4200"/>
            </a:b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Politiche Sociali, Solidarietà, Integrazione</a:t>
            </a:r>
            <a:br>
              <a:rPr sz="4200"/>
            </a:br>
            <a:endParaRPr b="0" lang="en-US" sz="4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Footlight MT Light"/>
              </a:rPr>
              <a:t>(dott.sa Stefania Marianton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f497d"/>
                </a:solidFill>
                <a:latin typeface="Cambria"/>
              </a:rPr>
              <a:t>BANDO  PER L’EROGAZIONE DI UN CONTRIBUTO ECONOMICO PER FAMIGLIE CON DUE O PIU’ FIGLI DI ETA’ COMPRESA TRA 3 E 18 ANNI E/O MAGGIORENNI SOLO SE STUDENTI UNIVERSITARI IN CORSO E COMUNQUE CON ETA’ INFERIORE AD ANNI 2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1) REQUISITI GENERALI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419040" algn="just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i cittadini residenti nel Comune di Rieti si applica quanto previsto dal Regolamento Comunale per l’Assistenza Economica, art. 11 di cui alla Deliberazione di Consiglio Comunale n. 18 del 10/05/2013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19040" algn="just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i cittadini residenti negli altri Comuni del Distretto RI/1, si applica, quanto stabilito dai rispettivi Regolamenti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19040" algn="just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ucleo familiare con due o più figli minori di età compresa tra 3 e 18 anni  e/o figli  maggiorenni fiscalmente a carico, solo se studenti universitari in corso e comunque con età inferiore ad anni 2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situazione economica del nucleo non superiore ad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€ 16.954,95 – 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limite di reddito per l’accesso  all’assegno di maternità erogato dall’INPS nell’anno 2015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(I.S.E.E. calcolato ai sensi del D.P.C.M. 5/12/2013 n. 159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residenza in uno dei Comuni afferenti al Distretto RI/1 da almeno un anno sola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Il presente contributo non è cumulabile con il servizio di assistenza domiciliare, con il finanziamento Home Care Premium, con altre forme di assistenza ( L.162/98, Non Autosufficienza, SLA, interventi Alzheimer) e con il ricovero residenziale in struttura sanitaria o sociosanitaria di un familiare rientrante nello stato di famiglia dell’istante, qualora per detto ricovero il nucleo familiare fruisse già di interventi di natura economica distrettuali, regionali e/o comunal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2) DOCUMENTAZIONE OBBLIGATORIA A PENA DI ESCLUSIONE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2608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omanda di ammissione al contributo redatta su apposito modu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chiarazione sostitutiva unica, in corso di validità, attestante la situazione economica del nucleo familiare (I.S.E.E. calcolata ai sensi del D.P.C.M. 5/12/2013 n. 159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pia fotostatica non autenticata di un documento di identità, in corso di validit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pia fotostatica non autenticata del permesso di soggior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gli studenti universitari: certificato attestante lo stato di studente in corso rilasciato dall’Università frequentat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3) TERMINI E MODALITA’ PER LA PRESENTAZIONE DELLA DOMANDA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 pena di esclusione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, le domande devono pervenire all’URP dei rispettivi Comuni di residenza  nei successivi trenta giorni dalla pubblicazione del presente bando. Per la domanda farà fede la data di arrivo  e potrà essere consegnata a mano, ovvero raccomandata A.R., ovvero PEC dei rispettivi Comuni di residenz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Per il Comune di Rieti: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protocollo@pec.comune.rieti.it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vasco\Desktop\20100618193422!Rieti-Stemma.png"/>
          <p:cNvPicPr/>
          <p:nvPr/>
        </p:nvPicPr>
        <p:blipFill>
          <a:blip r:embed="rId2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4) IMPORTI DEI CONTRIBUTI E MODALITA’ DI PAGAMENTO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Secondo l’ordine della graduatoria di appartenenza (A o B), nei limiti degli stanziamenti previsti   per   ciascuna di esse, il contributo economico verrà erogato ai  nuclei familiari con figli minori di età compresa tra 3 e 18 anni  e/o figli  maggiorenni, fiscalmente a carico, solo se studenti universitari in corso e comunque con età inferiore ad anni 26, come segu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Nucleo familiare con n. 2 figli: € 800,00 una tant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Nucleo familiare con più di 3 figli: € 1.200,00 una tantu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14:14Z</dcterms:created>
  <dc:creator>Vasco Maria Cleri</dc:creator>
  <dc:description/>
  <dc:language>en-US</dc:language>
  <cp:lastModifiedBy>Stefania Mariantoni</cp:lastModifiedBy>
  <dcterms:modified xsi:type="dcterms:W3CDTF">2015-12-29T20:41:21Z</dcterms:modified>
  <cp:revision>41</cp:revision>
  <dc:subject/>
  <dc:title>Comune di Rieti</dc:title>
</cp:coreProperties>
</file>