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3DA8-1C6F-42FF-99C2-F1F28DBD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0BF2-4EAE-4AE9-9B41-99AFC5D2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0A88-0744-4A23-9C38-2AE202D2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7EEB-A07F-45E6-9671-2E9C10B0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BDCC-E97E-46D6-B5D5-EE5E8719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C051-0664-4953-8E05-678A0D26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84C1-1191-4850-B00A-7F452060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8287-472F-4954-9DC0-8050F39F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73EA-0EEA-4702-9D8E-43143B7C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9CFF-3165-494D-8BBA-4D56E44B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569B-56A6-4231-81A7-D94DC320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4D03-CA69-4927-A583-9C63B56B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D354-F4FE-495C-8B54-6BFD0E89C95A}" type="slidenum">
              <a:rPr b="0" lang="it-IT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rotocollo@pec.comune.rieti.it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1f497d"/>
                </a:solidFill>
                <a:latin typeface="Cambria"/>
              </a:rPr>
              <a:t>Comune</a:t>
            </a:r>
            <a:r>
              <a:rPr b="1" lang="it-IT" sz="4200" spc="-1" strike="noStrike">
                <a:solidFill>
                  <a:srgbClr val="1f497d"/>
                </a:solidFill>
                <a:latin typeface="Cambria"/>
              </a:rPr>
              <a:t> </a:t>
            </a:r>
            <a:r>
              <a:rPr b="0" lang="it-IT" sz="4200" spc="-1" strike="noStrike">
                <a:solidFill>
                  <a:srgbClr val="1f497d"/>
                </a:solidFill>
                <a:latin typeface="Cambria"/>
              </a:rPr>
              <a:t>di Rieti</a:t>
            </a:r>
            <a:br>
              <a:rPr sz="4200"/>
            </a:br>
            <a:r>
              <a:rPr b="0" lang="it-IT" sz="4200" spc="-1" strike="noStrike">
                <a:solidFill>
                  <a:srgbClr val="1f497d"/>
                </a:solidFill>
                <a:latin typeface="Cambria"/>
              </a:rPr>
              <a:t>Politiche Sociali, Solidarietà, Integrazione</a:t>
            </a:r>
            <a:br>
              <a:rPr sz="4200"/>
            </a:br>
            <a:endParaRPr b="0" lang="en-US" sz="4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Footlight MT Light"/>
              </a:rPr>
              <a:t>(dott.sa Stefania Marianton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f497d"/>
                </a:solidFill>
                <a:latin typeface="Cambria"/>
              </a:rPr>
              <a:t>BANDO  PER L’EROGAZIONE DI CONTRIBU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f497d"/>
                </a:solidFill>
                <a:latin typeface="Cambria"/>
              </a:rPr>
              <a:t> </a:t>
            </a:r>
            <a:r>
              <a:rPr b="0" lang="it-IT" sz="2600" spc="-1" strike="noStrike">
                <a:solidFill>
                  <a:srgbClr val="1f497d"/>
                </a:solidFill>
                <a:latin typeface="Cambria"/>
              </a:rPr>
              <a:t>FINALIZZATI AL PAGAMENTO DEL SERVIZIO IDR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Cambria"/>
              </a:rPr>
              <a:t>1) REQUISITI GENERALI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419040" algn="just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ittadini residenti nel Comune di Rieti con contratto di fornitura del servizio idrico con Sog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41904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situazione economica del nucleo non superiore ad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€ 16.954,95 – </a:t>
            </a: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limite di reddito per l’accesso  all’assegno di maternità erogato dall’INPS nell’anno 2015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(I.S.E.E. calcolato ai sensi del D.P.C.M. 5/12/2013 n. 159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Cambria"/>
              </a:rPr>
              <a:t>2) DOCUMENTAZIONE OBBLIGATORIA A PENA DI ESCLUSIONE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 algn="just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omanda di ammissione al contributo redatta su apposito modul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 algn="just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chiarazione sostitutiva unica, in corso di validità, attestante la situazione economica del nucleo familiare (I.S.E.E. calcolata ai sensi del D.P.C.M. 5/12/2013 n. 159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 algn="just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pia fotostatica non autenticata di un documento di identità, in corso di validità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 algn="just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pia fotostatica non autenticata del permesso di soggiorn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 algn="just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Bollette non pag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Cambria"/>
              </a:rPr>
              <a:t>4) IMPORTI DEI CONTRIBUTI E MODALITA’ DI PAGAMENTO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il contributo economico verrà erogato ai  nuclei familiari secondo le seguenti fas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. Nucleo familiare con ISEE fino a 5.651,65: fino ad un massimo di € 500,0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Nucleo familiare con ISEE da 5.651,66 a 11.303,30: fino a € 300,0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Nucleo familiare con ISEE da 11.303.31 a 16.954,95: fino a € 150,0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vasco\Desktop\20100618193422!Rieti-Stemma.png"/>
          <p:cNvPicPr/>
          <p:nvPr/>
        </p:nvPicPr>
        <p:blipFill>
          <a:blip r:embed="rId1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Cambria"/>
              </a:rPr>
              <a:t>3) TERMINI E MODALITA’ PER LA PRESENTAZIONE DELLA DOMANDA</a:t>
            </a:r>
            <a:endParaRPr b="0" lang="en-US" sz="24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A pena di esclusione</a:t>
            </a: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, le domande devono pervenire all’URP entro il 29/1/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Per il Comune di Rieti: </a:t>
            </a:r>
            <a:r>
              <a:rPr b="0" lang="it-IT" sz="24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protocollo@pec.comune.rieti.it</a:t>
            </a:r>
            <a:r>
              <a:rPr b="0" lang="it-IT" sz="2400" spc="-1" strike="noStrike">
                <a:solidFill>
                  <a:srgbClr val="000000"/>
                </a:solidFill>
                <a:latin typeface="Cambria"/>
              </a:rPr>
              <a:t>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vasco\Desktop\20100618193422!Rieti-Stemma.png"/>
          <p:cNvPicPr/>
          <p:nvPr/>
        </p:nvPicPr>
        <p:blipFill>
          <a:blip r:embed="rId2"/>
          <a:stretch/>
        </p:blipFill>
        <p:spPr>
          <a:xfrm>
            <a:off x="8458200" y="5334120"/>
            <a:ext cx="6858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8:14:14Z</dcterms:created>
  <dc:creator>Vasco Maria Cleri</dc:creator>
  <dc:description/>
  <dc:language>en-US</dc:language>
  <cp:lastModifiedBy>Stefania Mariantoni</cp:lastModifiedBy>
  <dcterms:modified xsi:type="dcterms:W3CDTF">2015-12-29T21:37:28Z</dcterms:modified>
  <cp:revision>43</cp:revision>
  <dc:subject/>
  <dc:title>Comune di Rieti</dc:title>
</cp:coreProperties>
</file>